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CA7-D5F3-4E4E-A637-D69B07BC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AD3-FA02-4A07-AF48-BF88003F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031-B9E6-4C15-A949-069FE83E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1D4-B544-4A8B-B16B-EA775017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03D-AB0E-45A3-8A55-D884D4E2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178-739D-485A-B436-6F02C8F3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822-7B28-402C-9622-2BA5EABD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8A1-B9BA-48D0-808F-8C0D69DF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712-89BB-4D92-AD19-7939E890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23D-DC2B-40E6-AFE3-82FC009C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E65-710F-4F3A-AC58-087F2DA4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154-8D9E-42FD-893A-A8EF9F08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DAA9-05E5-43EA-9849-B7700BB27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MISSION SHIFT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0520" y="4952880"/>
            <a:ext cx="1542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RE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3RD OR 4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DO NOT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2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ls2-10" descr=""/>
          <p:cNvPicPr/>
          <p:nvPr/>
        </p:nvPicPr>
        <p:blipFill>
          <a:blip r:embed="rId1"/>
          <a:srcRect l="13367" t="18823" r="15608" b="28774"/>
          <a:stretch/>
        </p:blipFill>
        <p:spPr>
          <a:xfrm>
            <a:off x="3390840" y="1371600"/>
            <a:ext cx="2362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3-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 START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4876920"/>
            <a:ext cx="3047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PARKING BR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TRANSMISSION RANGE SE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ETHER START BUT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ENGINE STAR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ACCELERATOR PE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LOW AIR 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TACH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4876920"/>
            <a:ext cx="2895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.  OIL PRESSURE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.  WATER TEMPERATURE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.  FUEL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.  BATTERY GAUGE (12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.  BATTERY GAUGE (24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.  LOW AIR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.  AIR PRESSURE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ls3-1" descr=""/>
          <p:cNvPicPr/>
          <p:nvPr/>
        </p:nvPicPr>
        <p:blipFill>
          <a:blip r:embed="rId1"/>
          <a:srcRect l="-782" t="18580" r="9374" b="24622"/>
          <a:stretch/>
        </p:blipFill>
        <p:spPr>
          <a:xfrm>
            <a:off x="2171880" y="1295280"/>
            <a:ext cx="4800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3-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 START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4876920"/>
            <a:ext cx="3047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PARKING BR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TRANSMISSION RANGE SE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ETHER START BUT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ENGINE STAR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ACCELERATOR PE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LOW AIR 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TACH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4876920"/>
            <a:ext cx="2895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.  OIL PRESSURE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.  WATER TEMPERATURE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.  FUEL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.  BATTERY GAUGE (12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.  BATTERY GAUGE (24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.  LOW AIR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.  AIR PRESSURE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ls3-2" descr=""/>
          <p:cNvPicPr/>
          <p:nvPr/>
        </p:nvPicPr>
        <p:blipFill>
          <a:blip r:embed="rId1"/>
          <a:srcRect l="1360" t="19791" r="11086" b="24622"/>
          <a:stretch/>
        </p:blipFill>
        <p:spPr>
          <a:xfrm>
            <a:off x="2171880" y="1295280"/>
            <a:ext cx="4800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3-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GINE SHUT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19732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TRANSMISSION RANGE SELECTOR 2.  PARKING BRAKE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TACH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IGNITIO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ls3-3" descr=""/>
          <p:cNvPicPr/>
          <p:nvPr/>
        </p:nvPicPr>
        <p:blipFill>
          <a:blip r:embed="rId1"/>
          <a:srcRect l="1527" t="22126" r="2971" b="18323"/>
          <a:stretch/>
        </p:blipFill>
        <p:spPr>
          <a:xfrm>
            <a:off x="2095560" y="1371600"/>
            <a:ext cx="4952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4-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ENGINE BRAKE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ls4-1" descr=""/>
          <p:cNvPicPr/>
          <p:nvPr/>
        </p:nvPicPr>
        <p:blipFill>
          <a:blip r:embed="rId1"/>
          <a:srcRect l="3692" t="22809" r="7717" b="2051"/>
          <a:stretch/>
        </p:blipFill>
        <p:spPr>
          <a:xfrm>
            <a:off x="2895480" y="1523880"/>
            <a:ext cx="3353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4-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 TO OPERATE ENGINE BR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519732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ENGINE BRAK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INDICATO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TACH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ls4-2" descr=""/>
          <p:cNvPicPr/>
          <p:nvPr/>
        </p:nvPicPr>
        <p:blipFill>
          <a:blip r:embed="rId1"/>
          <a:srcRect l="1860" t="22301" r="1860" b="16466"/>
          <a:stretch/>
        </p:blipFill>
        <p:spPr>
          <a:xfrm>
            <a:off x="1981080" y="1600200"/>
            <a:ext cx="5181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4-3</a:t>
            </a:r>
            <a:br>
              <a:rPr sz="1600"/>
            </a:br>
            <a:br>
              <a:rPr sz="16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GINE BRAKE OPERATION 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758960" y="2854440"/>
            <a:ext cx="181080" cy="2791800"/>
            <a:chOff x="1758960" y="2854440"/>
            <a:chExt cx="181080" cy="2791800"/>
          </a:xfrm>
        </p:grpSpPr>
        <p:sp>
          <p:nvSpPr>
            <p:cNvPr id="115" name=""/>
            <p:cNvSpPr/>
            <p:nvPr/>
          </p:nvSpPr>
          <p:spPr>
            <a:xfrm>
              <a:off x="1758960" y="2854440"/>
              <a:ext cx="181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58960" y="3282840"/>
              <a:ext cx="18108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58960" y="3676320"/>
              <a:ext cx="181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58960" y="4093920"/>
              <a:ext cx="181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58960" y="4500360"/>
              <a:ext cx="181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58960" y="4917960"/>
              <a:ext cx="181080" cy="30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58960" y="5344920"/>
              <a:ext cx="181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273400" y="1600200"/>
            <a:ext cx="4597200" cy="31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 Do not use engine brake with cold eng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 Select proper transmission ge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 Be aware of control switch pos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 Use correct position for road surface condi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 Get acquainted with "braking feel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  Use correct gear on downgr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  Always shut off control switch after u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5-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TIS AND DRIVELINE LOCKUP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38560" y="4952880"/>
            <a:ext cx="2666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ROTARY SELECTOR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OVERSPEED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LOW AIR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STAR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DISABL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ls5-1" descr=""/>
          <p:cNvPicPr/>
          <p:nvPr/>
        </p:nvPicPr>
        <p:blipFill>
          <a:blip r:embed="rId1"/>
          <a:srcRect l="1813" t="22423" r="3627" b="19632"/>
          <a:stretch/>
        </p:blipFill>
        <p:spPr>
          <a:xfrm>
            <a:off x="2629080" y="1219320"/>
            <a:ext cx="3886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ls5-2" descr=""/>
          <p:cNvPicPr/>
          <p:nvPr/>
        </p:nvPicPr>
        <p:blipFill>
          <a:blip r:embed="rId1"/>
          <a:srcRect l="5140" t="14027" r="3268" b="978"/>
          <a:stretch/>
        </p:blipFill>
        <p:spPr>
          <a:xfrm>
            <a:off x="2743200" y="762120"/>
            <a:ext cx="3733920" cy="5943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5-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IVELINE LOCKUP M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5-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TIS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ls5-3" descr=""/>
          <p:cNvPicPr/>
          <p:nvPr/>
        </p:nvPicPr>
        <p:blipFill>
          <a:blip r:embed="rId1"/>
          <a:srcRect l="22348" t="24367" r="19254" b="41459"/>
          <a:stretch/>
        </p:blipFill>
        <p:spPr>
          <a:xfrm>
            <a:off x="762120" y="1143000"/>
            <a:ext cx="4343400" cy="21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687240" y="3505320"/>
          <a:ext cx="7769520" cy="2282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240" y="3505320"/>
                    <a:ext cx="776952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181480" y="1600200"/>
            <a:ext cx="3124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ON/OFF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ROTARY SELECTOR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STAR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LED LI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AMBER OVER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RED LOW AI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TRANSMISSION RANGE SE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6-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YDRAULIC MODE SE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0360" y="4800600"/>
            <a:ext cx="32050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HS M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 = OFF - NO HYDRAU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= AUTO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= MANUAL HOOK 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= MANUAL MAIN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 = MANUAL TRANS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 = CRANE OR SELF RECOVERY W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ls2-12" descr=""/>
          <p:cNvPicPr/>
          <p:nvPr/>
        </p:nvPicPr>
        <p:blipFill>
          <a:blip r:embed="rId1"/>
          <a:srcRect l="10866" t="22059" r="55039" b="34634"/>
          <a:stretch/>
        </p:blipFill>
        <p:spPr>
          <a:xfrm>
            <a:off x="3543480" y="16765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/ICE-R  TRANSFER CASE - L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19400" y="5181480"/>
            <a:ext cx="290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STE/ICE-R RECEPTA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STE/ICE-R ZERO OFFSE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TRANSFER CASE SHIFT L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LHS LOAD/UNLOAD JOYST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ls2-11" descr=""/>
          <p:cNvPicPr/>
          <p:nvPr/>
        </p:nvPicPr>
        <p:blipFill>
          <a:blip r:embed="rId1"/>
          <a:srcRect l="1504" t="0" r="2440" b="1248"/>
          <a:stretch/>
        </p:blipFill>
        <p:spPr>
          <a:xfrm>
            <a:off x="2133720" y="1295280"/>
            <a:ext cx="4876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6-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HS WARNING 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ls6-2" descr=""/>
          <p:cNvPicPr/>
          <p:nvPr/>
        </p:nvPicPr>
        <p:blipFill>
          <a:blip r:embed="rId1"/>
          <a:srcRect l="2295" t="23913" r="2295" b="6525"/>
          <a:stretch/>
        </p:blipFill>
        <p:spPr>
          <a:xfrm>
            <a:off x="1600200" y="1676520"/>
            <a:ext cx="5943600" cy="3047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38560" y="495288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LHS NO TRANS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LHS OVERLOA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L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FLA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6-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HS JOYST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ls6-3" descr=""/>
          <p:cNvPicPr/>
          <p:nvPr/>
        </p:nvPicPr>
        <p:blipFill>
          <a:blip r:embed="rId1"/>
          <a:stretch/>
        </p:blipFill>
        <p:spPr>
          <a:xfrm>
            <a:off x="1638360" y="2093760"/>
            <a:ext cx="5869080" cy="26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6-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IGNMENT WITH FLA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ls6-4" descr=""/>
          <p:cNvPicPr/>
          <p:nvPr/>
        </p:nvPicPr>
        <p:blipFill>
          <a:blip r:embed="rId1">
            <a:lum contrast="42000"/>
          </a:blip>
          <a:srcRect l="3764" t="6545" r="1664" b="11217"/>
          <a:stretch/>
        </p:blipFill>
        <p:spPr>
          <a:xfrm>
            <a:off x="1143000" y="1752480"/>
            <a:ext cx="6858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6-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OK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ls6-5" descr=""/>
          <p:cNvPicPr/>
          <p:nvPr/>
        </p:nvPicPr>
        <p:blipFill>
          <a:blip r:embed="rId1"/>
          <a:srcRect l="1915" t="17281" r="1915" b="883"/>
          <a:stretch/>
        </p:blipFill>
        <p:spPr>
          <a:xfrm>
            <a:off x="1905120" y="1447920"/>
            <a:ext cx="5333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7-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UCK AND TRAILER POSITION FOR LOADING 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ls7-1" descr=""/>
          <p:cNvPicPr/>
          <p:nvPr/>
        </p:nvPicPr>
        <p:blipFill>
          <a:blip r:embed="rId1"/>
          <a:srcRect l="2827" t="19528" r="1680" b="2765"/>
          <a:stretch/>
        </p:blipFill>
        <p:spPr>
          <a:xfrm>
            <a:off x="1409760" y="1600200"/>
            <a:ext cx="6324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7-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ADING M1076 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ls7-2" descr=""/>
          <p:cNvPicPr/>
          <p:nvPr/>
        </p:nvPicPr>
        <p:blipFill>
          <a:blip r:embed="rId1"/>
          <a:srcRect l="0" t="33362" r="0" b="24064"/>
          <a:stretch/>
        </p:blipFill>
        <p:spPr>
          <a:xfrm>
            <a:off x="1652760" y="1905120"/>
            <a:ext cx="5838480" cy="1752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43200" y="3643200"/>
            <a:ext cx="4800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ES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FLATRACK S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IGN TRUCK AND TRA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 PROPER SEQUENCE OF L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SITION FLATRACK BACK TO REAR ST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 NOT PUSH FLATRACK WITH HOOK 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7-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ATRACK (FR) LOCK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ls7-3" descr=""/>
          <p:cNvPicPr/>
          <p:nvPr/>
        </p:nvPicPr>
        <p:blipFill>
          <a:blip r:embed="rId1"/>
          <a:srcRect l="6815" t="14521" r="4453" b="0"/>
          <a:stretch/>
        </p:blipFill>
        <p:spPr>
          <a:xfrm>
            <a:off x="1752480" y="1295280"/>
            <a:ext cx="57913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YDRAULIC MODE SE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0360" y="4800600"/>
            <a:ext cx="32050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HS M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 = OFF - NO HYDRAU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= AUTO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= MANUAL HOOK 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= MANUAL MAIN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 = MANUAL TRANS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 = CRANE OR SELF RECOVERY W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ls2-12" descr=""/>
          <p:cNvPicPr/>
          <p:nvPr/>
        </p:nvPicPr>
        <p:blipFill>
          <a:blip r:embed="rId1"/>
          <a:srcRect l="0" t="22059" r="0" b="31842"/>
          <a:stretch/>
        </p:blipFill>
        <p:spPr>
          <a:xfrm>
            <a:off x="1554120" y="1676520"/>
            <a:ext cx="6033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33640" y="4800600"/>
            <a:ext cx="327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ENGINE EMERGENCY STOP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SRW/CRAN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WINCH PAY IN OR OU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GAS PARTICULATE FILTER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CHEMICAL ALARM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TRANSFER CASE LOCKUP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TRANSFER CASE LOCKUP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955880" y="914400"/>
            <a:ext cx="5232240" cy="3888000"/>
            <a:chOff x="1955880" y="914400"/>
            <a:chExt cx="5232240" cy="3888000"/>
          </a:xfrm>
        </p:grpSpPr>
        <p:pic>
          <p:nvPicPr>
            <p:cNvPr id="52" name="pls2-13" descr=""/>
            <p:cNvPicPr/>
            <p:nvPr/>
          </p:nvPicPr>
          <p:blipFill>
            <a:blip r:embed="rId1"/>
            <a:stretch/>
          </p:blipFill>
          <p:spPr>
            <a:xfrm>
              <a:off x="1955880" y="914400"/>
              <a:ext cx="5232240" cy="388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"/>
            <p:cNvGrpSpPr/>
            <p:nvPr/>
          </p:nvGrpSpPr>
          <p:grpSpPr>
            <a:xfrm>
              <a:off x="5113440" y="1828800"/>
              <a:ext cx="252360" cy="246240"/>
              <a:chOff x="5113440" y="1828800"/>
              <a:chExt cx="252360" cy="246240"/>
            </a:xfrm>
          </p:grpSpPr>
          <p:sp>
            <p:nvSpPr>
              <p:cNvPr id="54" name=""/>
              <p:cNvSpPr/>
              <p:nvPr/>
            </p:nvSpPr>
            <p:spPr>
              <a:xfrm>
                <a:off x="5113440" y="182880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124600" y="183672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217600" y="4098960"/>
              <a:ext cx="252360" cy="246240"/>
              <a:chOff x="2217600" y="4098960"/>
              <a:chExt cx="252360" cy="246240"/>
            </a:xfrm>
          </p:grpSpPr>
          <p:sp>
            <p:nvSpPr>
              <p:cNvPr id="57" name=""/>
              <p:cNvSpPr/>
              <p:nvPr/>
            </p:nvSpPr>
            <p:spPr>
              <a:xfrm>
                <a:off x="2217600" y="409896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28760" y="410688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 flipV="1">
              <a:off x="2362320" y="3733920"/>
              <a:ext cx="759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2674800" y="4251600"/>
              <a:ext cx="252360" cy="246240"/>
              <a:chOff x="2674800" y="4251600"/>
              <a:chExt cx="252360" cy="246240"/>
            </a:xfrm>
          </p:grpSpPr>
          <p:sp>
            <p:nvSpPr>
              <p:cNvPr id="61" name=""/>
              <p:cNvSpPr/>
              <p:nvPr/>
            </p:nvSpPr>
            <p:spPr>
              <a:xfrm>
                <a:off x="2674800" y="425160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85960" y="425952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 flipV="1">
              <a:off x="2819520" y="3885840"/>
              <a:ext cx="1522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092400" y="4403880"/>
              <a:ext cx="252360" cy="246240"/>
              <a:chOff x="3092400" y="4403880"/>
              <a:chExt cx="252360" cy="246240"/>
            </a:xfrm>
          </p:grpSpPr>
          <p:sp>
            <p:nvSpPr>
              <p:cNvPr id="65" name=""/>
              <p:cNvSpPr/>
              <p:nvPr/>
            </p:nvSpPr>
            <p:spPr>
              <a:xfrm>
                <a:off x="3092400" y="440388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103560" y="441180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 flipV="1">
              <a:off x="3200400" y="403884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513240" y="4480200"/>
              <a:ext cx="252360" cy="246240"/>
              <a:chOff x="3513240" y="4480200"/>
              <a:chExt cx="252360" cy="246240"/>
            </a:xfrm>
          </p:grpSpPr>
          <p:sp>
            <p:nvSpPr>
              <p:cNvPr id="69" name=""/>
              <p:cNvSpPr/>
              <p:nvPr/>
            </p:nvSpPr>
            <p:spPr>
              <a:xfrm>
                <a:off x="3513240" y="448020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24400" y="448812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 flipV="1">
              <a:off x="3657600" y="4114440"/>
              <a:ext cx="7632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3894120" y="4556160"/>
              <a:ext cx="252360" cy="246240"/>
              <a:chOff x="3894120" y="4556160"/>
              <a:chExt cx="252360" cy="246240"/>
            </a:xfrm>
          </p:grpSpPr>
          <p:sp>
            <p:nvSpPr>
              <p:cNvPr id="73" name=""/>
              <p:cNvSpPr/>
              <p:nvPr/>
            </p:nvSpPr>
            <p:spPr>
              <a:xfrm>
                <a:off x="3894120" y="455616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905280" y="456408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 flipV="1">
              <a:off x="4038480" y="41911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4343040" y="1371600"/>
              <a:ext cx="489240" cy="533520"/>
              <a:chOff x="4343040" y="1371600"/>
              <a:chExt cx="489240" cy="53352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4579920" y="1371600"/>
                <a:ext cx="252360" cy="246240"/>
                <a:chOff x="4579920" y="1371600"/>
                <a:chExt cx="252360" cy="24624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4579920" y="1371600"/>
                  <a:ext cx="252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Black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91080" y="1379520"/>
                  <a:ext cx="228600" cy="228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 flipH="1">
                <a:off x="4343040" y="1600200"/>
                <a:ext cx="30492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H="1">
              <a:off x="4723920" y="1981440"/>
              <a:ext cx="3812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DE PANEL SWI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RCUIT BREA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ls2-14b" descr=""/>
          <p:cNvPicPr/>
          <p:nvPr/>
        </p:nvPicPr>
        <p:blipFill>
          <a:blip r:embed="rId1"/>
          <a:stretch/>
        </p:blipFill>
        <p:spPr>
          <a:xfrm>
            <a:off x="1386000" y="1828800"/>
            <a:ext cx="637056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ATER/DEFROSTER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2080" y="5181480"/>
            <a:ext cx="213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AIR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FA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HEAT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DEFROST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ls2-15" descr=""/>
          <p:cNvPicPr/>
          <p:nvPr/>
        </p:nvPicPr>
        <p:blipFill>
          <a:blip r:embed="rId1"/>
          <a:srcRect l="1349" t="25883" r="6215" b="20520"/>
          <a:stretch/>
        </p:blipFill>
        <p:spPr>
          <a:xfrm>
            <a:off x="2400480" y="1523880"/>
            <a:ext cx="4343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RATOR’S S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50960" y="5181480"/>
            <a:ext cx="4042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SEAT BELT/SHOULDER HAR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SEAT CONNECTOR STR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HEIGHT ADJUSTMENT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FORWARD/BACKWARD ADJUSTMENT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RIDE ADJUSTMENT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ls2-16" descr=""/>
          <p:cNvPicPr/>
          <p:nvPr/>
        </p:nvPicPr>
        <p:blipFill>
          <a:blip r:embed="rId1"/>
          <a:srcRect l="15482" t="15790" r="25640" b="25928"/>
          <a:stretch/>
        </p:blipFill>
        <p:spPr>
          <a:xfrm>
            <a:off x="3467160" y="1371600"/>
            <a:ext cx="2209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IFLE STOWAGE 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84440" y="5181480"/>
            <a:ext cx="2173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LOWER RIFLE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RIFLE MOUNT HA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TOP RIFLE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ls2-17" descr=""/>
          <p:cNvPicPr/>
          <p:nvPr/>
        </p:nvPicPr>
        <p:blipFill>
          <a:blip r:embed="rId1"/>
          <a:srcRect l="1059" t="22059" r="4787" b="19267"/>
          <a:stretch/>
        </p:blipFill>
        <p:spPr>
          <a:xfrm>
            <a:off x="2666880" y="1600200"/>
            <a:ext cx="3810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HINE GUN 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86120" y="5380200"/>
            <a:ext cx="3373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MACHINE GUN OPERATOR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MACHINE GUN 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MACHINE GUN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ls2-18" descr=""/>
          <p:cNvPicPr/>
          <p:nvPr/>
        </p:nvPicPr>
        <p:blipFill>
          <a:blip r:embed="rId1"/>
          <a:srcRect l="564" t="21185" r="2271" b="17068"/>
          <a:stretch/>
        </p:blipFill>
        <p:spPr>
          <a:xfrm>
            <a:off x="2400480" y="144792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7:37:59Z</dcterms:created>
  <dc:creator>John Ritter</dc:creator>
  <dc:description/>
  <dc:language>en-US</dc:language>
  <cp:lastModifiedBy>John Ritter</cp:lastModifiedBy>
  <cp:lastPrinted>1999-01-26T15:34:03Z</cp:lastPrinted>
  <dcterms:modified xsi:type="dcterms:W3CDTF">1999-01-26T15:46:20Z</dcterms:modified>
  <cp:revision>6</cp:revision>
  <dc:subject/>
  <dc:title>No Slide Title</dc:title>
</cp:coreProperties>
</file>